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AC015-C665-4087-ABC0-B39F5E4D6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E6D1E-851D-4D18-ACD0-2E21CF79F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2F2B6-1341-4067-A50A-BA43DAE46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30290-EC62-488C-98B5-224DA931F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A226F9-94AD-4794-8069-B04E0CEF99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6AE84-2293-466C-B244-FB54560A8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EECC6-3790-4581-92B7-ECA6CF633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A653E-840E-4D5C-B237-691281B37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7D6BA-6596-4016-BC6D-826D7D16C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EADBA-6F5A-44D0-8D21-81CDCB999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44188-84EB-4D64-B94E-B4A998C59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0F798-44F2-4CB5-8DBC-A9CC1A56F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1BA40-7230-43CF-9DEF-B839ED718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7FF68-D14E-4F90-AC49-AB2DC3CD8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1A393-EDDF-4465-9368-0128BC22C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EB4AC-2A60-41CB-8D7E-7D1617C79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DF0E1-13E3-445A-AE8E-9FDE4DDB9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6EA4F-35D9-4426-BFCC-E9F65B610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45265-AA11-4FC7-B3BA-5003AB5B8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D3926-6CD1-42FA-806C-B4CD1CA9F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FAD4C-1036-437E-920D-BF4A7A6CA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5A54C-8F91-4F46-A17F-B1623962B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5933C-03B3-480F-A4AD-63449A264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06ED6-8178-4850-890A-B564D23E4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647CA5-6FA6-44E1-947B-9644D25EAA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FB50EE-CBD4-49A7-ADA4-34461DE6D1D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2168640"/>
            <a:ext cx="8001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0" spc="-1" strike="noStrike">
                <a:solidFill>
                  <a:srgbClr val="e5ffff"/>
                </a:solidFill>
                <a:latin typeface="Tahoma"/>
              </a:rPr>
              <a:t>How Honest Are You?</a:t>
            </a:r>
            <a:endParaRPr b="0" lang="en-US" sz="6000" spc="-1" strike="noStrike">
              <a:solidFill>
                <a:srgbClr val="e5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9.</a:t>
            </a:r>
            <a:r>
              <a:rPr b="0" lang="en-US" sz="2800" spc="-1" strike="noStrike">
                <a:solidFill>
                  <a:srgbClr val="ffffff"/>
                </a:solidFill>
                <a:latin typeface="Tahoma"/>
              </a:rPr>
              <a:t>	</a:t>
            </a:r>
            <a:r>
              <a:rPr b="0" lang="en-US" sz="2800" spc="-1" strike="noStrike">
                <a:solidFill>
                  <a:srgbClr val="ffffff"/>
                </a:solidFill>
                <a:latin typeface="Tahoma"/>
              </a:rPr>
              <a:t>After office hours, you sometimes do consulting work to earn extra money.  One customer runs up a sizable bill, and then says, “Will you take less if I pay cash?  You wouldn’t have to report it on your income tax, so you’d save a good bit.”  You mentally calculate: even if you cut his bill by $200, not reporting the cash transaction would bring you out several hundred dollars ahead.  Would you do so?</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Ye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Absolutely not</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10.</a:t>
            </a:r>
            <a:r>
              <a:rPr b="0" lang="en-US" sz="2000" spc="-1" strike="noStrike">
                <a:solidFill>
                  <a:srgbClr val="ffffff"/>
                </a:solidFill>
                <a:latin typeface="Tahoma"/>
              </a:rPr>
              <a:t>	</a:t>
            </a:r>
            <a:r>
              <a:rPr b="0" lang="en-US" sz="2000" spc="-1" strike="noStrike">
                <a:solidFill>
                  <a:srgbClr val="ffffff"/>
                </a:solidFill>
                <a:latin typeface="Tahoma"/>
              </a:rPr>
              <a:t>You own an old farmhouse in an area where farming has been dying out.  You haven’t been able either to sell it or rent it for years and are losing thousands on the mortgage payments each year.  You keep hoping that lightning or vandals will burn it down, so you can collect the insurance and tear up the mortgage.  But neither lightning nor vandals gives you the needed relief - and you find yourself thinking that perhaps you can do so yourself.  If you felt that you could burn down the house without being caught or suspected, would you do so?</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a] Ye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b] Probably, but with qualm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c] Probably not, though tempted</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d] Absolutely not</a:t>
            </a: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a:solidFill>
                  <a:srgbClr val="e5ffff"/>
                </a:solidFill>
                <a:latin typeface="Tahoma"/>
              </a:rPr>
              <a:t>Point Values</a:t>
            </a:r>
            <a:endParaRPr b="0" lang="en-US" sz="6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0 points for A</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1 point for B</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2 points for C</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3 points for D</a:t>
            </a:r>
            <a:endParaRPr b="0" lang="en-US" sz="4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is honesty assessment </a:t>
            </a:r>
            <a:r>
              <a:rPr b="0" i="1" lang="en-US" sz="4000" spc="-1" strike="noStrike">
                <a:solidFill>
                  <a:srgbClr val="e5ffff"/>
                </a:solidFill>
                <a:latin typeface="Tahoma"/>
              </a:rPr>
              <a:t>may</a:t>
            </a:r>
            <a:r>
              <a:rPr b="0" lang="en-US" sz="4000" spc="-1" strike="noStrike">
                <a:solidFill>
                  <a:srgbClr val="e5ffff"/>
                </a:solidFill>
                <a:latin typeface="Tahoma"/>
              </a:rPr>
              <a:t> indicate your future behavior.</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2400" spc="-1" strike="noStrike">
                <a:solidFill>
                  <a:srgbClr val="ffffff"/>
                </a:solidFill>
                <a:latin typeface="Tahoma"/>
              </a:rPr>
              <a:t>Honesty Level</a:t>
            </a:r>
            <a:r>
              <a:rPr b="0" i="1" lang="en-US" sz="2400" spc="-1" strike="noStrike">
                <a:solidFill>
                  <a:srgbClr val="ffffff"/>
                </a:solidFill>
                <a:latin typeface="Tahoma"/>
              </a:rPr>
              <a:t>	</a:t>
            </a:r>
            <a:r>
              <a:rPr b="0" i="1" lang="en-US" sz="2400" spc="-1" strike="noStrike">
                <a:solidFill>
                  <a:srgbClr val="ffffff"/>
                </a:solidFill>
                <a:latin typeface="Tahoma"/>
              </a:rPr>
              <a:t>Comment</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8-30 point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arvelous</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0-27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ssentially honest but with signs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eakening</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10-1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airly dishonest but with some level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science</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0-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Big trouble</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e U.S. average is 20-27 points.</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These days an increasing number of people believe that each person has the right to decide for himself what is right and wrong, as long as his behavior doesn’t harm anyone else, rather than abide by the traditional standards of society.  How does this philosophy strike you?</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Totally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Disagree</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Totally disagree</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As part of trying to move up the career ladder, you’re updating your resume.  You’ve heard from various go-getters that the smart thing to do is “beef up” the record a bit - give yourself more educational background than you actually have and inflate your past salary and achievements somewhat.  It won’t hurt anyone, but it will increase your chances of getting a better job and higher pay.  Will you do so?</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Sur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No way</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Arriving at a good hotel on a business trip, you find that your room is not yet made up.  You admire the bath mat, which is luxurious and just the color you’ve been looking for in vain.  It occurs to you that if you put it in your suitcase, the chambermaid, when she makes up the room, would think that the previous tenants of the room took it and bring you another; you’d be able to take one home, and no one would be the wiser.  Would you actually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I doubt i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 migh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Certainly not</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At work, you requisition an expensive new software program from supply; you sign for one set, but through some error two are delivered to your desk.  You put the extra one in a drawer; after a month, it’s clear no one knows you have it.  You’ve wanted to buy that very program for your home computer; if you took the extra set home, no one would ever know, and the big firm you work for would never feel the loss.  Would you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Sur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Probably no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No way</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A kitchen fire does $5,000 worth of damage in your house.  You’re insured, but according to the terms of your policy, you must pay the first $500.  The adjuster is a sly fellow who hints that if you made it worth his while, he’d report that you suffered $6,000 worth of damage, with the result that even if you gave him a couple hundred, you’d still get away scot-free.   Would you follow up on the hint and make a deal with him?</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Most likely, but with qualms</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Most likely not, though tempted</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Your daughter, a college student, is worried about her upcoming final exam in biology, with which she is having a hard time; if she doesn’t maintain a B+ average, she’ll lose her scholarship.  She tells you that someone is selling stolen copies of the exam for $20 each; she’s thinking of buying one.  What is your reaction?</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All for it </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n favor, but with qualms</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Against it, though conflicted</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Totally opposed to the idea</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At a big house wares store, you pick out a dozen items.  In the checkout line, the clerk at the register overlooks a $55 coffee machine that you didn’t remove from the shopping cart onto the counter.  If you say nothing, she probably won’t notice it as you leave; even if she does, you can say you hadn’t realized she’d missed it.  Would you keep quiet about i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Of cours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Certainly not</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You’ll soon be moving across the country.  A knowledgeable but somewhat shady acquaintance says that if you leave without paying your rent, telephone, fuel oil, or lighting bills, none of the companies involved will spend money to try to collect from you in court at long distance.  Take his advice, he says, and you can save quite a bundle.  Would you?</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Ye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 but with qualm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Probably not though tempted</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21:36:21Z</dcterms:created>
  <dc:creator>Frank Scuiletti</dc:creator>
  <dc:description/>
  <dc:language>en-US</dc:language>
  <cp:lastModifiedBy>Frank Scuiletti</cp:lastModifiedBy>
  <dcterms:modified xsi:type="dcterms:W3CDTF">2014-03-14T19:11:47Z</dcterms:modified>
  <cp:revision>5</cp:revision>
  <dc:subject/>
  <dc:title>How Honest You?</dc:title>
</cp:coreProperties>
</file>